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69C3-4199-4E2B-BE39-C4CCBDDFF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45058-8719-415E-BFE1-61B8EF672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272EF-9621-4658-B294-9DE43DB63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69D4-318C-4AEE-B598-70606D33ED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3AA5B-0890-44E5-8EE6-7643F7C159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BAF5-1D84-4502-A669-C0682F702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16480-F35C-4684-9C9C-55CB23737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EE16-DB58-4149-91A7-30D00DE2E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4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379E-4053-43EA-8A4D-85922C107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C1807-403A-4265-99A5-55E8C84A0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E6C55-B38F-4525-BE39-7AEE2E12B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624A-443E-4390-AA94-BA01193EA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972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067207-7B05-4909-A98C-9036CF37C07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2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función de rela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7"/>
            <p:cNvSpPr/>
            <p:nvPr/>
          </p:nvSpPr>
          <p:spPr>
            <a:xfrm>
              <a:off x="1828800" y="2666880"/>
              <a:ext cx="5697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TIPOS DE SISTEMAS NERVIOS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9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Text Box 4"/>
            <p:cNvSpPr/>
            <p:nvPr/>
          </p:nvSpPr>
          <p:spPr>
            <a:xfrm>
              <a:off x="984240" y="90360"/>
              <a:ext cx="754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Tipos de sistemas nervios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21 Grupo"/>
          <p:cNvGrpSpPr/>
          <p:nvPr/>
        </p:nvGrpSpPr>
        <p:grpSpPr>
          <a:xfrm>
            <a:off x="1979640" y="2781360"/>
            <a:ext cx="5257800" cy="793800"/>
            <a:chOff x="1979640" y="2781360"/>
            <a:chExt cx="5257800" cy="793800"/>
          </a:xfrm>
        </p:grpSpPr>
        <p:sp>
          <p:nvSpPr>
            <p:cNvPr id="55" name="Freeform 10"/>
            <p:cNvSpPr/>
            <p:nvPr/>
          </p:nvSpPr>
          <p:spPr>
            <a:xfrm>
              <a:off x="1979640" y="3284640"/>
              <a:ext cx="5256360" cy="1440"/>
            </a:xfrm>
            <a:custGeom>
              <a:avLst/>
              <a:gdLst>
                <a:gd name="textAreaLeft" fmla="*/ 0 w 5256360"/>
                <a:gd name="textAreaRight" fmla="*/ 5256720 w 5256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4602" h="5">
                  <a:moveTo>
                    <a:pt x="0" y="0"/>
                  </a:moveTo>
                  <a:lnTo>
                    <a:pt x="14601" y="4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11"/>
            <p:cNvSpPr/>
            <p:nvPr/>
          </p:nvSpPr>
          <p:spPr>
            <a:xfrm>
              <a:off x="1979640" y="3283200"/>
              <a:ext cx="1440" cy="29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" h="813">
                  <a:moveTo>
                    <a:pt x="0" y="812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12"/>
            <p:cNvSpPr/>
            <p:nvPr/>
          </p:nvSpPr>
          <p:spPr>
            <a:xfrm>
              <a:off x="7236000" y="3283200"/>
              <a:ext cx="1440" cy="29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" h="813">
                  <a:moveTo>
                    <a:pt x="0" y="812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>
              <a:off x="4643640" y="2781360"/>
              <a:ext cx="1440" cy="503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6" h="1399">
                  <a:moveTo>
                    <a:pt x="0" y="0"/>
                  </a:moveTo>
                  <a:lnTo>
                    <a:pt x="5" y="1398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20 Grupo"/>
          <p:cNvGrpSpPr/>
          <p:nvPr/>
        </p:nvGrpSpPr>
        <p:grpSpPr>
          <a:xfrm>
            <a:off x="3564000" y="1701720"/>
            <a:ext cx="2087640" cy="1081080"/>
            <a:chOff x="3564000" y="1701720"/>
            <a:chExt cx="2087640" cy="1081080"/>
          </a:xfrm>
        </p:grpSpPr>
        <p:sp>
          <p:nvSpPr>
            <p:cNvPr id="60" name="AutoShape 7"/>
            <p:cNvSpPr/>
            <p:nvPr/>
          </p:nvSpPr>
          <p:spPr>
            <a:xfrm>
              <a:off x="3564000" y="1701720"/>
              <a:ext cx="2087640" cy="108108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Text Box 14"/>
            <p:cNvSpPr/>
            <p:nvPr/>
          </p:nvSpPr>
          <p:spPr>
            <a:xfrm>
              <a:off x="3635280" y="1915920"/>
              <a:ext cx="194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SISTEMAS NERVIOS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22 Grupo"/>
          <p:cNvGrpSpPr/>
          <p:nvPr/>
        </p:nvGrpSpPr>
        <p:grpSpPr>
          <a:xfrm>
            <a:off x="826920" y="3571920"/>
            <a:ext cx="2303640" cy="1079280"/>
            <a:chOff x="826920" y="3571920"/>
            <a:chExt cx="2303640" cy="1079280"/>
          </a:xfrm>
        </p:grpSpPr>
        <p:sp>
          <p:nvSpPr>
            <p:cNvPr id="63" name="AutoShape 9"/>
            <p:cNvSpPr/>
            <p:nvPr/>
          </p:nvSpPr>
          <p:spPr>
            <a:xfrm>
              <a:off x="899280" y="3571920"/>
              <a:ext cx="2088000" cy="107928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Text Box 15"/>
            <p:cNvSpPr/>
            <p:nvPr/>
          </p:nvSpPr>
          <p:spPr>
            <a:xfrm>
              <a:off x="826920" y="3789000"/>
              <a:ext cx="2303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RED </a:t>
              </a:r>
              <a:br>
                <a:rPr sz="1600"/>
              </a:b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DE NEURON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23 Grupo"/>
          <p:cNvGrpSpPr/>
          <p:nvPr/>
        </p:nvGrpSpPr>
        <p:grpSpPr>
          <a:xfrm>
            <a:off x="5867280" y="3573360"/>
            <a:ext cx="2737080" cy="1077840"/>
            <a:chOff x="5867280" y="3573360"/>
            <a:chExt cx="2737080" cy="1077840"/>
          </a:xfrm>
        </p:grpSpPr>
        <p:sp>
          <p:nvSpPr>
            <p:cNvPr id="66" name="AutoShape 8"/>
            <p:cNvSpPr/>
            <p:nvPr/>
          </p:nvSpPr>
          <p:spPr>
            <a:xfrm>
              <a:off x="6083280" y="3573360"/>
              <a:ext cx="2305080" cy="1077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Text Box 16"/>
            <p:cNvSpPr/>
            <p:nvPr/>
          </p:nvSpPr>
          <p:spPr>
            <a:xfrm>
              <a:off x="5867280" y="3842640"/>
              <a:ext cx="2737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SISTEMA NERVIOSO CENTRALIZA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" name="Text Box 19"/>
          <p:cNvSpPr/>
          <p:nvPr/>
        </p:nvSpPr>
        <p:spPr>
          <a:xfrm>
            <a:off x="395280" y="5300640"/>
            <a:ext cx="31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3492360" y="2349360"/>
            <a:ext cx="2444760" cy="389124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71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4" name="Picture 6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Text Box 7"/>
          <p:cNvSpPr/>
          <p:nvPr/>
        </p:nvSpPr>
        <p:spPr>
          <a:xfrm>
            <a:off x="971640" y="1419120"/>
            <a:ext cx="727236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da en los cnidarios (pólipos y medus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ecen de un sistema nervioso central. Solo tienen una red de neuronas interconectadas que recorre su pared corpor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Red de neur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5364000" y="2916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d de neuron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10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6443640" y="5118120"/>
            <a:ext cx="165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Red de neuronas en un póli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984240" y="90360"/>
            <a:ext cx="75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Tipos de sistemas nervio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Line 14"/>
          <p:cNvSpPr/>
          <p:nvPr/>
        </p:nvSpPr>
        <p:spPr>
          <a:xfrm flipH="1">
            <a:off x="4824000" y="3429000"/>
            <a:ext cx="1117800" cy="86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15"/>
          <p:cNvSpPr/>
          <p:nvPr/>
        </p:nvSpPr>
        <p:spPr>
          <a:xfrm flipH="1">
            <a:off x="4255920" y="3429000"/>
            <a:ext cx="1686240" cy="217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85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Text Box 4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" name="Picture 5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Text Box 6"/>
          <p:cNvSpPr/>
          <p:nvPr/>
        </p:nvSpPr>
        <p:spPr>
          <a:xfrm>
            <a:off x="984240" y="90360"/>
            <a:ext cx="75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Tipos de sistemas nervio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tretch/>
        </p:blipFill>
        <p:spPr>
          <a:xfrm>
            <a:off x="4572000" y="3718080"/>
            <a:ext cx="2739960" cy="28112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684360" y="1197000"/>
            <a:ext cx="727236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da en la mayor parte de los anima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él, las neuronas se agrupan y forma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Centros nerviosos, que tienden a agruparse en la cabeza y procesan la inform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  <a:ea typeface="Geneva"/>
              </a:rPr>
              <a:t>Ganglio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 en moluscos y artrópod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  <a:ea typeface="Geneva"/>
              </a:rPr>
              <a:t>Encéfal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 y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  <a:ea typeface="Geneva"/>
              </a:rPr>
              <a:t>médul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 en vertebrad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Nervios que conectan los órganos sensoriales con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Geneva"/>
              </a:rPr>
              <a:t>los centros nerviosos, y éstos, con los efector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Sistema nervioso centraliz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900000" y="4437000"/>
            <a:ext cx="3081600" cy="2024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1"/>
          <p:cNvSpPr/>
          <p:nvPr/>
        </p:nvSpPr>
        <p:spPr>
          <a:xfrm>
            <a:off x="2484360" y="40784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ngli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7667640" y="4292640"/>
            <a:ext cx="12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ncéfal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6948360" y="3933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édula espi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3635280" y="5499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ervi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5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7236000" y="4726080"/>
            <a:ext cx="172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Sistemas nerviosos de un molus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y un mamífe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18"/>
          <p:cNvSpPr/>
          <p:nvPr/>
        </p:nvSpPr>
        <p:spPr>
          <a:xfrm flipH="1">
            <a:off x="1316160" y="4319640"/>
            <a:ext cx="1573200" cy="13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19"/>
          <p:cNvSpPr/>
          <p:nvPr/>
        </p:nvSpPr>
        <p:spPr>
          <a:xfrm flipH="1">
            <a:off x="2230560" y="4319640"/>
            <a:ext cx="658800" cy="14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20"/>
          <p:cNvSpPr/>
          <p:nvPr/>
        </p:nvSpPr>
        <p:spPr>
          <a:xfrm>
            <a:off x="2881440" y="4319640"/>
            <a:ext cx="603000" cy="114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21"/>
          <p:cNvSpPr/>
          <p:nvPr/>
        </p:nvSpPr>
        <p:spPr>
          <a:xfrm flipH="1">
            <a:off x="2962440" y="5805360"/>
            <a:ext cx="1465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22"/>
          <p:cNvSpPr/>
          <p:nvPr/>
        </p:nvSpPr>
        <p:spPr>
          <a:xfrm flipV="1">
            <a:off x="4427640" y="4809600"/>
            <a:ext cx="1233360" cy="99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23"/>
          <p:cNvSpPr/>
          <p:nvPr/>
        </p:nvSpPr>
        <p:spPr>
          <a:xfrm flipH="1">
            <a:off x="6172200" y="4076640"/>
            <a:ext cx="77616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24"/>
          <p:cNvSpPr/>
          <p:nvPr/>
        </p:nvSpPr>
        <p:spPr>
          <a:xfrm flipH="1" flipV="1">
            <a:off x="6587640" y="4403880"/>
            <a:ext cx="1008360" cy="3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luis</cp:lastModifiedBy>
  <dcterms:modified xsi:type="dcterms:W3CDTF">2012-10-28T09:38:11Z</dcterms:modified>
  <cp:revision>10</cp:revision>
  <dc:subject/>
  <dc:title>Presentación de PowerPoint</dc:title>
</cp:coreProperties>
</file>